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584C-3D15-4647-B823-2F9EADFDD1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2AD3-4F07-43CA-AA3F-C179B52AB5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602-D071-49A9-A6EA-15F9F8FBCA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7F1E-EA46-49DC-94DC-4D8E1A943E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A4F6-FB63-4C0E-B9A6-8585CB02FA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CEF-00ED-408B-929E-910C9F2D64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2FD7-0B7C-413C-8D2E-DBD3EF5114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142-C047-4598-BAAD-D9367A5438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7803-7A8F-4F17-A885-A1BC11B371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4374-409A-416A-8C77-34582FF658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010C-2858-4672-8B8A-E1001DD16F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F5B2-5096-40C8-B9E3-E42A9A2BD5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8BC7-7481-46CA-80A9-5AEC87B8AA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13D9-BA25-41B3-AE7B-E220B30F2A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59EF-89BC-413B-83D3-1FB77F5FDF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CD39-6005-4F4C-AC8B-5453F6BB1F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B828-B062-471E-BD41-F466D46470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3FC-F973-4026-92B6-565C8DA8FE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035B-6D6D-461C-9FD9-4DE2ED3D2A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7708-D750-41DD-8991-C4A96213FE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099-8CDE-43E3-82B2-BCBC746834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528D-6C60-4AF0-8141-F18C384D68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1A56-CE0C-4045-AAF3-2C006A760D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3779-D8DF-43CD-B800-144BCE04F7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2F23-52C0-450E-8CB4-3E87C05655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2F0-EB45-4DA4-91CD-61096D79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3ED-001A-43B1-ABE3-60405A42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6D2-85DE-4AA6-91FE-DAFB4CF6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D1D-8DDF-4CA5-B691-51C2E0D1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BB9-07EC-46BD-8C05-7607921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5FE-8E71-42DA-B228-14EEA93C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61F-229B-42F5-B818-BBB639CE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FE1-F126-44B8-9B19-0C7B5EB7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D31-71C1-43D8-A8EF-48D7210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188-4CB7-4D16-A9D9-70D207A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0A7-47D8-458D-8B99-F83F22F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AD1-D06F-48B3-AEBF-35DFE8A3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DCD-7CA5-4D42-83F4-6AEAE00890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5B7C-DDAD-475B-B950-20AC313B4A5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11280" y="256536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4000"/>
            </a:br>
            <a:r>
              <a:rPr b="1" lang="es-MX" sz="40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Arial Narrow"/>
              </a:rPr>
              <a:t>ESCUELA DE POST GRADO</a:t>
            </a:r>
            <a:br>
              <a:rPr sz="4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s-MX" sz="4000" spc="-1" strike="noStrike" u="sng">
                <a:solidFill>
                  <a:srgbClr val="000099"/>
                </a:solidFill>
                <a:uFillTx/>
                <a:latin typeface="Trebuchet MS"/>
              </a:rPr>
              <a:t>PSICOLOGÍA EDUCATIVA</a:t>
            </a:r>
            <a:br>
              <a:rPr sz="4000"/>
            </a:br>
            <a:r>
              <a:rPr b="1" lang="es-MX" sz="4000" spc="-1" strike="noStrike">
                <a:solidFill>
                  <a:srgbClr val="a50021"/>
                </a:solidFill>
                <a:latin typeface="Trebuchet MS"/>
              </a:rPr>
              <a:t>UNIDAD IV</a:t>
            </a:r>
            <a:br>
              <a:rPr sz="4000"/>
            </a:br>
            <a:r>
              <a:rPr b="1" lang="es-MX" sz="40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a50021"/>
                </a:solidFill>
                <a:latin typeface="Georgia"/>
              </a:rPr>
              <a:t>TIPOS DE APRENDIZAJE Y PROCESOS PSICOLÓGICOS EN EL APRENDIZAJE</a:t>
            </a:r>
            <a:br>
              <a:rPr sz="2800"/>
            </a:br>
            <a:br>
              <a:rPr sz="3600"/>
            </a:br>
            <a:r>
              <a:rPr b="1" lang="es-MX" sz="36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36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36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928960" y="6000840"/>
            <a:ext cx="27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262699"/>
                </a:solidFill>
                <a:latin typeface="Times New Roman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7201-5B5D-4DFA-9442-DF14488D85E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2.1. La </a:t>
            </a:r>
            <a:r>
              <a:rPr b="1" lang="es-ES_tradnl" sz="2800" spc="-1" strike="noStrike" u="sng">
                <a:solidFill>
                  <a:srgbClr val="003300"/>
                </a:solidFill>
                <a:uFillTx/>
                <a:latin typeface="Arial Narrow"/>
              </a:rPr>
              <a:t>conducta operante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no se da automáticamente con el estímulo, una forma de conseguirla es esperar que los sujetos emitan por casualidad la respuesta deseada, disponiendo de algunos medios (como la motivación para  acelerar el proce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Caja de tru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de Thornd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caja"/>
          <p:cNvPicPr/>
          <p:nvPr/>
        </p:nvPicPr>
        <p:blipFill>
          <a:blip r:embed="rId1"/>
          <a:stretch/>
        </p:blipFill>
        <p:spPr>
          <a:xfrm>
            <a:off x="2666880" y="2209680"/>
            <a:ext cx="6019920" cy="4100760"/>
          </a:xfrm>
          <a:prstGeom prst="rect">
            <a:avLst/>
          </a:prstGeom>
          <a:ln w="0">
            <a:noFill/>
          </a:ln>
        </p:spPr>
      </p:pic>
      <p:sp>
        <p:nvSpPr>
          <p:cNvPr id="8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F409-361D-4F14-86B3-E95032CADD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"/>
              </a:rPr>
              <a:t>2.2. Caja de Sk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paloma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9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95A-CE57-4070-B420-DCE8ECB4057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61048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609480" y="914400"/>
          <a:ext cx="8001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8001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73D3-A791-47B5-912C-218C3E2FA4E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n suma, el </a:t>
            </a:r>
            <a:r>
              <a:rPr b="1" lang="es-ES_tradnl" sz="3600" spc="-1" strike="noStrike" u="sng">
                <a:solidFill>
                  <a:srgbClr val="800000"/>
                </a:solidFill>
                <a:uFillTx/>
                <a:latin typeface="Arial Narrow"/>
              </a:rPr>
              <a:t>Condicionamiento Operante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 se define com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l tipo de aprendizaje en el cual la conducta voluntaria deseada se premia y se ignoran o castigan los actos o comportamientos no deseado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1219320"/>
            <a:ext cx="7543800" cy="44956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B07B-FD4D-4CAB-BE97-F41FA8E8B5A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</a:rPr>
              <a:t>III. CONDICIONAMIENTO OBSERV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</a:rPr>
              <a:t>(BANDU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380880" y="1447920"/>
          <a:ext cx="8382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82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4825-A46E-49D6-953B-455C33BDEA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0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Este aprendizaje se basa en la IMITACION O MODE-LAMIENTO  y en las consecuencias de la conducta que se observa en un individuo (reforzam. vicar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Potenciadores de la im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1. Las características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2. Las características de las situaciones a mode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3. Las características del observador (adiest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Etapas del model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Atención  -  Retención  -  Re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A68B-5B81-4F2B-A616-D086184AD4F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"/>
              </a:rPr>
              <a:t>OBJETIVO N°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CRIMINAR LOS PROCE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ASICOS Y PSICOLÓGICOS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VIENEN EN E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8ABA-2F24-467D-8686-3822F2B781D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Procesos básicos que intervienen en el aprendizaje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1.  El reforzamiento</a:t>
            </a: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ositivo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lases de re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imar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Tipos de refuerzo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Secund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3809880" y="2819520"/>
            <a:ext cx="1676520" cy="6094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3809880" y="2133360"/>
            <a:ext cx="1676520" cy="5331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3657600" y="4572000"/>
            <a:ext cx="1828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3733920" y="5181480"/>
            <a:ext cx="175248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B4FB-8174-456D-9D7F-23A916179F4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Programas de reforz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(a)  Programa de reforzamient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(b)  Programa de reforzamiento intermi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ntervalo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Fi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Razón        Fi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4191120" y="312408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191120" y="487692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B5F2-2299-430F-822C-7554F64A143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2.  La ge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eneralización de Rspta.            Generalización de 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3.  La discri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d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Reforzador)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"/>
          <p:cNvSpPr/>
          <p:nvPr/>
        </p:nvSpPr>
        <p:spPr>
          <a:xfrm flipV="1">
            <a:off x="2438280" y="16765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2438280" y="20574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2438280" y="2438280"/>
            <a:ext cx="11430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2438280" y="243828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6172200" y="16002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6172200" y="20574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6248520" y="2514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6324480" y="25146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666880" y="5257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267080" y="5257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4506-6F37-40CD-9AE3-C6202357DD0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PE" sz="3200" spc="-1" strike="noStrike" u="sng">
                <a:solidFill>
                  <a:srgbClr val="800000"/>
                </a:solidFill>
                <a:uFillTx/>
                <a:latin typeface="Arial"/>
              </a:rPr>
              <a:t>OBJETIVO N° 1</a:t>
            </a: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  </a:t>
            </a: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DISCRIMINAR LOS DIFERENTES PROTOTIPOS EXPERIMENTALES DEL APRENDIZA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8F98-8044-47EA-A1EA-5A2FF7896A3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4.  El mold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5. El encad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6. La inhib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7.  La signalización o cod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B5C7-BD6A-4100-A72B-8BFCEE754D9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  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Procesos  psicológicos  que  intervienen  en 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aprendiz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a) Procesos Medi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procesos mediadores son las actividades de recepción y análisis de la estimulación, de la regulación y de la dirección de la conduct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     </a:t>
            </a: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b)  Variables Condicion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n aquellos factores del organismo, cuyas modificaciones afectan en algún sentido los procesos medi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FC6E-F36B-42FC-9403-39BDBB1AA68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esquema2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147" name="4 Marcador de pie de página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8FAE-9E08-4C35-8D0A-70714AE6119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a)   Procesos Medi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Sensación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Sensibilización a los agentes físic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Percepción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Representación figurativa de los hechos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Pensamiento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Proceso de transformación y codificación de los hec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Motivación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Impulsión selectiva hacia ciertas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Ajuste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Proceso de organización y actualización de la condu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Aprendizaje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Proceso de adquisición y conservación del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Personalidad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 Sistema estructurado o rasgos del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7268-9DD9-4258-91D2-54CBD6440CA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-54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b) Variables Condicion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Fisi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just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just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Pat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just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Evolu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2815-A277-48B3-A35F-C047B3D5836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¿QUÉ ES EL APRENDIZA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001000" cy="228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336600"/>
            </a:solidFill>
            <a:miter/>
          </a:ln>
        </p:spPr>
        <p:txBody>
          <a:bodyPr anchor="t">
            <a:normAutofit/>
          </a:bodyPr>
          <a:p>
            <a:pPr lvl="1" marL="19044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cambio relativamente estable de la conducta que resulta del entrenamiento y la experienc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EB2E-C3CC-4395-AC4A-49BA01B3F9E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¿QUÉ ES EL CONDICIONA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001000" cy="3429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336600"/>
            </a:solidFill>
            <a:miter/>
          </a:ln>
        </p:spPr>
        <p:txBody>
          <a:bodyPr anchor="t">
            <a:normAutofit/>
          </a:bodyPr>
          <a:p>
            <a:pPr lvl="1" marL="19044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Es un procedimiento experimental en la medida que a través de la manipulación u organización de ciertas variables, van a generar los cambios en la conduc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845-79BC-4520-8701-D97A530AAB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TIPOS DE CONDICIONAMIEN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 CONDICIONAMIENTO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 CONDICIONAMIENTO INSTRUMENTAL U OPER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 CONDICIONAMIENTO OBSERV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4780-2D50-4831-8D2E-C1CC57D2B04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</a:rPr>
              <a:t>I. CONDICIONAMIENTO CLASICO (PAVL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Aparato usado por Pavlov para el Condicionamiento Cl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rro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FA3F-4197-402D-9D3C-528F7CC9B6B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esquema0"/>
          <p:cNvPicPr/>
          <p:nvPr/>
        </p:nvPicPr>
        <p:blipFill>
          <a:blip r:embed="rId1"/>
          <a:stretch/>
        </p:blipFill>
        <p:spPr>
          <a:xfrm>
            <a:off x="571680" y="71424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E80-FB92-446F-8CC2-3779E7A61F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En suma, el </a:t>
            </a:r>
            <a:r>
              <a:rPr b="0" lang="es-PE" sz="3600" spc="-1" strike="noStrike" u="sng">
                <a:solidFill>
                  <a:srgbClr val="800000"/>
                </a:solidFill>
                <a:uFillTx/>
                <a:latin typeface="Arial Narrow"/>
              </a:rPr>
              <a:t>Condicionamiento Clásico</a:t>
            </a: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 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El tipo de aprendizaje en el cual un organismo aprende a transferir una respuesta natural ante un estímulo, a otro estímulo previamente neutral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28"/>
          <p:cNvSpPr/>
          <p:nvPr/>
        </p:nvSpPr>
        <p:spPr>
          <a:xfrm>
            <a:off x="762120" y="1219320"/>
            <a:ext cx="7619760" cy="44956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3FD-5032-4435-BD0D-C717D0DBDB6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4960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I. CONDICIONAMIENTO INSTRUMENTAL U OPERANT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.1.  La Caja de Trucos de Thorndik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.2.  El Espacio Experimental Estándar de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Sk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6:49:46Z</dcterms:created>
  <dc:creator>SERVER</dc:creator>
  <dc:description/>
  <dc:language>en-US</dc:language>
  <cp:lastModifiedBy>PC</cp:lastModifiedBy>
  <dcterms:modified xsi:type="dcterms:W3CDTF">2009-04-24T13:57:29Z</dcterms:modified>
  <cp:revision>44</cp:revision>
  <dc:subject/>
  <dc:title>Sin título de diapositiva</dc:title>
</cp:coreProperties>
</file>